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591-FC56-4071-81D8-9A7061D8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93F-A0DF-45BC-84EB-5D2D796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08A-4B61-4474-8097-E6CC75B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73B-4D05-4737-9BA2-4108FE39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601-4CF2-4392-A821-7DFFD4A1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8FC-07E8-4326-A333-676E94D9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D05-6E11-4C86-8475-03F05DD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7B8-7901-4ECB-9A36-A095179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75C-17A5-47CB-A4EB-E5AF7E9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7EB-F547-470A-8A7A-8FD59AD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A6E-F412-4E46-93BC-75F50B9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DB6-B8AA-4E12-9821-BB3BC79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7F6-2FB3-464B-9B6D-124A3E65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00"/>
                </a:solidFill>
                <a:latin typeface="Tahoma"/>
              </a:rPr>
              <a:t>HERBÁR</a:t>
            </a:r>
            <a:br>
              <a:rPr sz="4400"/>
            </a:br>
            <a:r>
              <a:rPr b="0" lang="en-US" sz="2000" spc="-1" strike="noStrike">
                <a:solidFill>
                  <a:srgbClr val="404000"/>
                </a:solidFill>
                <a:latin typeface="Tahoma"/>
              </a:rPr>
              <a:t>(perokresby)</a:t>
            </a:r>
            <a:endParaRPr b="0" lang="en-US" sz="20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04000"/>
                </a:solidFill>
                <a:latin typeface="Tahoma"/>
              </a:rPr>
              <a:t>Vypracoval: Tomáš MARTIŠK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04000"/>
                </a:solidFill>
                <a:latin typeface="Tahoma"/>
              </a:rPr>
              <a:t>št. odbor:Priemyselný dizajn nábytk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04000"/>
                </a:solidFill>
                <a:latin typeface="Tahoma"/>
              </a:rPr>
              <a:t>I. roč., šk. rok: 1997-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80880"/>
            <a:ext cx="19814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Ostrya carpinifoli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9" name="h1_08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cea abie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2" name="h1_09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cem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5" name="h1_14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strobu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8" name="h1_12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sylvestr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1" name="h1_05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opulus tremul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4" name="h1_17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404000"/>
                </a:solidFill>
                <a:latin typeface="Times New Roman"/>
              </a:rPr>
              <a:t>Pseudotsuga menziesii</a:t>
            </a:r>
            <a:endParaRPr b="0" lang="en-US" sz="36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7" name="h1_10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robu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0" name="h1_03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3" name="h1_04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cerr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6" name="h1_06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bies alb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45" name="h1_16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Ulmus gla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9" name="h1_01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Ulmus laev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102" name="h1_19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00"/>
                </a:solidFill>
                <a:latin typeface="Tahoma"/>
              </a:rPr>
              <a:t>Koniec prezentácie</a:t>
            </a:r>
            <a:endParaRPr b="0" lang="en-US" sz="48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cer platanoide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48" name="h1_20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lnus glutinos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1" name="h1_15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Betula pendul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4" name="h1_13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Fagus sylvatic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7" name="h1_02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Fraxinus excelsior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0" name="h1_18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Juglans regi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3" name="h1_07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Larix decidu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6" name="h1_11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1:45:23Z</dcterms:created>
  <dc:creator>Michala SEDLIAKOVÁ, študentka I. roč.</dc:creator>
  <dc:description/>
  <dc:language>en-US</dc:language>
  <cp:lastModifiedBy>oem</cp:lastModifiedBy>
  <dcterms:modified xsi:type="dcterms:W3CDTF">2003-01-09T11:39:59Z</dcterms:modified>
  <cp:revision>28</cp:revision>
  <dc:subject>Štruktúra dreva</dc:subject>
  <dc:title>Semestrálna práca - 2002</dc:title>
</cp:coreProperties>
</file>