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3B3-6838-488D-B8E5-E08CA710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940-A8B8-4CBB-8CC2-7E469EBA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4BB-82F2-44C9-85FC-2E5F8322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79B-139C-4C9E-8767-9AA64A3D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3F7-4B03-4001-BC8C-F4B0CC59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FAB-64CD-4BF1-933D-7835AE14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95A-E583-4A27-A71F-F8214047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1BC-2449-4825-B8A9-3DCC2E74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434-6DF0-46BF-B734-36E8B8CC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4E6-D450-49E1-9622-BE2EFE9E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248-631C-4643-8918-7DF3467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E0E-B9FA-45FE-B5B1-65E438EB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1E9C-D242-4575-8E1D-0D39FF2BD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" Target="slide19.xml"/><Relationship Id="rId20" Type="http://schemas.openxmlformats.org/officeDocument/2006/relationships/slide" Target="slide20.xml"/><Relationship Id="rId21" Type="http://schemas.openxmlformats.org/officeDocument/2006/relationships/slide" Target="slide21.xml"/><Relationship Id="rId2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00"/>
                </a:solidFill>
                <a:latin typeface="Tahoma"/>
              </a:rPr>
              <a:t>HERBÁR</a:t>
            </a:r>
            <a:br>
              <a:rPr sz="4400"/>
            </a:br>
            <a:r>
              <a:rPr b="0" lang="en-US" sz="2000" spc="-1" strike="noStrike">
                <a:solidFill>
                  <a:srgbClr val="404000"/>
                </a:solidFill>
                <a:latin typeface="Tahoma"/>
              </a:rPr>
              <a:t>(perokresby)</a:t>
            </a:r>
            <a:endParaRPr b="0" lang="en-US" sz="20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04000"/>
                </a:solidFill>
                <a:latin typeface="Tahoma"/>
              </a:rPr>
              <a:t>Vypracoval: Tomáš MARTIŠK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04000"/>
                </a:solidFill>
                <a:latin typeface="Tahoma"/>
              </a:rPr>
              <a:t>št. odbor:Priemyselný dizajn nábytk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04000"/>
                </a:solidFill>
                <a:latin typeface="Tahoma"/>
              </a:rPr>
              <a:t>I. roč., šk. rok: 1997-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80880"/>
            <a:ext cx="198144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04000"/>
                </a:solidFill>
                <a:latin typeface="Tahoma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Ostrya carpinifoli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69" name="h1_08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icea abie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72" name="h1_09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inus cembr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75" name="h1_14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inus strobu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78" name="h1_12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inus sylvestri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81" name="h1_05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Populus tremul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84" name="h1_17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404000"/>
                </a:solidFill>
                <a:latin typeface="Times New Roman"/>
              </a:rPr>
              <a:t>Pseudotsuga menziesii</a:t>
            </a:r>
            <a:endParaRPr b="0" lang="en-US" sz="36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87" name="h1_10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Quercus robu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90" name="h1_03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Quercus rubr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93" name="h1_04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Quercus cerri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96" name="h1_06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Abies alb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45" name="h1_16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Ulmus glabr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99" name="h1_01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Ulmus laevi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102" name="h1_19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00"/>
                </a:solidFill>
                <a:latin typeface="Tahoma"/>
              </a:rPr>
              <a:t>Koniec prezentácie</a:t>
            </a:r>
            <a:endParaRPr b="0" lang="en-US" sz="4800" spc="-1" strike="noStrike">
              <a:solidFill>
                <a:srgbClr val="404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Acer platanoides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48" name="h1_20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Alnus glutinos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51" name="h1_15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Betula pendul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54" name="h1_13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Fagus sylvatic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57" name="h1_02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Fraxinus excelsior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60" name="h1_18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Juglans regi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63" name="h1_07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404000"/>
                </a:solidFill>
                <a:latin typeface="Times New Roman"/>
              </a:rPr>
              <a:t>Larix decidua</a:t>
            </a:r>
            <a:endParaRPr b="0" lang="en-US" sz="4400" spc="-1" strike="noStrike">
              <a:solidFill>
                <a:srgbClr val="404000"/>
              </a:solidFill>
              <a:latin typeface="Times New Roman"/>
            </a:endParaRPr>
          </a:p>
        </p:txBody>
      </p:sp>
      <p:pic>
        <p:nvPicPr>
          <p:cNvPr id="66" name="h1_11" descr=""/>
          <p:cNvPicPr/>
          <p:nvPr/>
        </p:nvPicPr>
        <p:blipFill>
          <a:blip r:embed="rId2"/>
          <a:stretch/>
        </p:blipFill>
        <p:spPr>
          <a:xfrm>
            <a:off x="212580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280" y="380880"/>
            <a:ext cx="1981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3" action="ppaction://hlinksldjump"/>
              </a:rPr>
              <a:t>Abies a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4" action="ppaction://hlinksldjump"/>
              </a:rPr>
              <a:t>Acer platan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5" action="ppaction://hlinksldjump"/>
              </a:rPr>
              <a:t>Alnus glut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6" action="ppaction://hlinksldjump"/>
              </a:rPr>
              <a:t>Betula pen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7" action="ppaction://hlinksldjump"/>
              </a:rPr>
              <a:t>Fagus sylv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8" action="ppaction://hlinksldjump"/>
              </a:rPr>
              <a:t>Fraxinus excels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9" action="ppaction://hlinksldjump"/>
              </a:rPr>
              <a:t>Juglans r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0" action="ppaction://hlinksldjump"/>
              </a:rPr>
              <a:t>Larix deci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1" action="ppaction://hlinksldjump"/>
              </a:rPr>
              <a:t>Ostrya carpi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2" action="ppaction://hlinksldjump"/>
              </a:rPr>
              <a:t>Picea 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3" action="ppaction://hlinksldjump"/>
              </a:rPr>
              <a:t>Pinus c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4" action="ppaction://hlinksldjump"/>
              </a:rPr>
              <a:t>Pinus st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5" action="ppaction://hlinksldjump"/>
              </a:rPr>
              <a:t>Pinus sylve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6" action="ppaction://hlinksldjump"/>
              </a:rPr>
              <a:t>Populus tre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7" action="ppaction://hlinksldjump"/>
              </a:rPr>
              <a:t>Pseudotsuga menzies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8" action="ppaction://hlinksldjump"/>
              </a:rPr>
              <a:t>Quercus ro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19" action="ppaction://hlinksldjump"/>
              </a:rPr>
              <a:t>Quercus ru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0" action="ppaction://hlinksldjump"/>
              </a:rPr>
              <a:t>Quercus ce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1" action="ppaction://hlinksldjump"/>
              </a:rPr>
              <a:t>Ulmus gl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404000"/>
                </a:solidFill>
                <a:uFillTx/>
                <a:latin typeface="Tahoma"/>
                <a:hlinkClick r:id="rId22" action="ppaction://hlinksldjump"/>
              </a:rPr>
              <a:t>Ulmus lae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11:45:23Z</dcterms:created>
  <dc:creator>Michala SEDLIAKOVÁ, študentka I. roč.</dc:creator>
  <dc:description/>
  <dc:language>en-US</dc:language>
  <cp:lastModifiedBy>oem</cp:lastModifiedBy>
  <dcterms:modified xsi:type="dcterms:W3CDTF">2003-01-09T11:39:59Z</dcterms:modified>
  <cp:revision>28</cp:revision>
  <dc:subject>Štruktúra dreva</dc:subject>
  <dc:title>Semestrálna práca - 2002</dc:title>
</cp:coreProperties>
</file>